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39326-50AE-4578-9A77-B1C4C3F7313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4A3F30-D819-45D8-9612-01C5FC253F0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62D2A-9258-41D6-A4A4-A88A471892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2129B-8D8A-4AFD-9420-0E5DE858FE1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8D1F56-A94C-4753-BB85-F1D3030FB8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234F08-D4EC-4E4D-B64E-8EBF7D8596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4C58A4-82C8-4461-98DB-E227A130FE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7240D3-385D-4727-8164-74539E67B2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F24C97-4469-45B8-B1B2-6D2254437D5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56C70B-D840-4DE9-BF5C-96C897A4559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225A52-1936-49AC-8E94-810476BA414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9C40E-024D-4497-A6A1-C341BF604D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B73BF0-398C-4EE4-BDB9-F33B1FF4755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64FDB6-73D3-4D2B-A9A9-19BDCE73B20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4EED851-CD2D-42BA-AE76-860EBB61844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0EADA9-E851-4B6D-BAEB-63581237F89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2DB4D3-D028-43CC-9919-15C8DE612D60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512A-A0D8-46F5-AD17-03A2E7B779C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294D-6EF5-493D-9749-780CE6F135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3CE0-C9F6-4718-8BCB-2714EAE07FA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3FD4-2B50-409F-ADA2-F48E6B96A7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5D09E-78D0-44B9-B579-A6C5CDC0CC2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B49D-8479-4070-B330-3AC30AF1B8E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6F10-4FB2-4E40-BCED-8D3CDF376CB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08EC3-9667-4B87-B205-4C531072677A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BB94E-3954-4231-994C-CC9242A2FCD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7FA0F-D4EF-4CD4-8018-4B1FE8F36ED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D6D34-A9D5-406D-8348-19D264A07F5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7BB4-99C8-4A32-A86D-0F7892B18CE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50E1-86E6-4861-B5AA-7B5B3C9E71A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999A1CC-CAC1-4F57-A7FF-557F848A3EF1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19F020-44B6-44F1-B5FC-8637F1852DF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6B24A-B2E4-4178-A00D-12B9F13E1A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1708A5-3C5A-497F-B578-E19CA10323B6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78C79D0-0B67-44EB-8C43-B35A134B27EF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6BED639-1638-4927-A9A6-CDFD8B3F07C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D72AB0-7B61-4F21-A5DE-CEF903991EA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339713A-67BE-49FF-8C7B-478338009831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90C53F4-B84D-4B9F-878A-C487F45EBFD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55FF50-CCE3-462D-818A-D4A1C07E5E1A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E463E2-5C36-498A-87EA-1D76A6F5B15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E6FC5B-7713-41B2-81FC-19A99FE8C408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244551-96C1-4486-85A5-10D0588F83C7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D41886C-6E79-408E-802C-C926A029B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DA4BDF-4A97-4401-9D66-ABC99AC2AAA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BF01C0-6F8E-4354-90BD-A4B98107D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BC78D0-92E3-4133-A0EB-067579B18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BABEDFF-6004-4E9D-B76D-91E85924B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10B954-8D05-4BA3-8533-C9DE4F5CF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B5B24A-345E-4CAC-8955-3AFD163C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9B7483-DC64-411C-8C64-F2A2C3BA3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1130C4-8D06-4FAC-B87E-BF92676FC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0440489-FA15-4C08-87AB-E1A37B576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015314-5D91-4A65-90B6-A280E95D8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E85102-66DB-4E6A-B9E7-D19D64FBA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47AB7-522D-49D6-945F-97CFF9711F7D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2CBFE6-8A55-44D0-90CF-8A38C17F4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877F4E4-2D42-48D9-B511-4FF59DC069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B4E277-7C69-4BB4-B4D8-5C518C029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A24B41-2F4A-42C4-B826-E33FDB323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101CE9-2AEB-4B73-BFB3-4EDBA38E4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EEF5B9-CE02-49CC-B705-54A6FB1A6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C1DFEC-5250-40D9-BB28-918BD1EB2B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D729F3-2CC1-4827-B632-A2ABFD0EB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503D4E0-6906-40FC-B183-9839ECC7D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C5B9E3-06BB-47E9-9752-721504D0C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F8FB8A-C6E0-4B0B-80E2-3B858B25CDC8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06FB52-A6AD-401D-9C5F-7BCDE9EC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75D198-C525-480E-90B7-51A03929F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845EC7-FCFC-404D-9C35-B1ED457725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7E41F-FA56-4266-BD39-71BC49FFA4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926BB2-B055-4DCD-AB1B-CED815B4AB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673BF-F942-48CB-A8FB-A54DAEC48A1F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F5F2-7087-4799-885F-68EFA9ECE4F2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685440" y="647676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9883B-FBF9-40EF-B566-9E059678236E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5"/>
          <a:stretch/>
        </p:blipFill>
        <p:spPr>
          <a:xfrm>
            <a:off x="3981600" y="1898640"/>
            <a:ext cx="1180800" cy="306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8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69714-938E-4417-96BE-2343205E25D4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0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1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D8548-3F93-4699-B25F-FCDF74144AC3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3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4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83CA6-CC47-46CA-A9EF-3C851C4CA26E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</a:rPr>
              <a:t>IV Alueiden Eurooppa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sivut 101-1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9. Alueelliset er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0. EU:n alue- ja rakennepolitiik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44DE-D0BA-4775-98CF-0F08D3DFCE88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5" name="Kuva 7" descr=""/>
          <p:cNvPicPr/>
          <p:nvPr/>
        </p:nvPicPr>
        <p:blipFill>
          <a:blip r:embed="rId1"/>
          <a:stretch/>
        </p:blipFill>
        <p:spPr>
          <a:xfrm>
            <a:off x="1835280" y="350028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EU:n kielipolitiikk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844640"/>
            <a:ext cx="822960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ue sivut 102-106 ja vastaa kysymyksi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ten EU:n viralliset kielet määräytyvä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tä kieleen liittyviä oikeuksia EU:n kansalaisella on suhteessa unioni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uinka EU:n toimielinten kokouksissa toimitaan kielellisest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ohdi pitäisikö EU:n siirtyä yhden tai muutaman virallisen kielen politiikkaa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n yleisimmin puhuttu kieli on saksa. Pohdi miksei saksa ole EU:n toimielinten työkiel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49B8-052C-479F-9C2A-834568528E3E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Kuva 9" descr=""/>
          <p:cNvPicPr/>
          <p:nvPr/>
        </p:nvPicPr>
        <p:blipFill>
          <a:blip r:embed="rId2"/>
          <a:stretch/>
        </p:blipFill>
        <p:spPr>
          <a:xfrm>
            <a:off x="8244000" y="47628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EU:n elintasoero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arkastele karttaa sivulla 108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nalysoi elintasoeroja maittain: missä köyhät ja missä rikkaat maa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arkastele maiden sisäisiä eroja: missä vauraat ja missä köyhät alue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tkä tekijät selittävät näitä eroja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Sisällön paikkamerkki 7" descr="eurooppa4 9.jpg"/>
          <p:cNvPicPr/>
          <p:nvPr/>
        </p:nvPicPr>
        <p:blipFill>
          <a:blip r:embed="rId1"/>
          <a:stretch/>
        </p:blipFill>
        <p:spPr>
          <a:xfrm>
            <a:off x="4500720" y="1557360"/>
            <a:ext cx="3760560" cy="4716360"/>
          </a:xfrm>
          <a:prstGeom prst="rect">
            <a:avLst/>
          </a:prstGeom>
          <a:ln w="0">
            <a:noFill/>
          </a:ln>
        </p:spPr>
      </p:pic>
      <p:sp>
        <p:nvSpPr>
          <p:cNvPr id="318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A63D5-C06E-4512-A186-43F23E69D5BC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Kuva 9" descr=""/>
          <p:cNvPicPr/>
          <p:nvPr/>
        </p:nvPicPr>
        <p:blipFill>
          <a:blip r:embed="rId2"/>
          <a:stretch/>
        </p:blipFill>
        <p:spPr>
          <a:xfrm>
            <a:off x="8172360" y="404640"/>
            <a:ext cx="3812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</a:rPr>
              <a:t>10 EU:n alue- ja rakennepolitiikka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sivut 109 - 1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dinsisällö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ntitehtä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tehtävien vastauk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3BA9B-56F0-40A6-B627-D0A4BAA4984F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5" name="Kuva 7" descr=""/>
          <p:cNvPicPr/>
          <p:nvPr/>
        </p:nvPicPr>
        <p:blipFill>
          <a:blip r:embed="rId1"/>
          <a:stretch/>
        </p:blipFill>
        <p:spPr>
          <a:xfrm>
            <a:off x="2627280" y="3789360"/>
            <a:ext cx="360360" cy="287280"/>
          </a:xfrm>
          <a:prstGeom prst="rect">
            <a:avLst/>
          </a:prstGeom>
          <a:ln w="0">
            <a:noFill/>
          </a:ln>
        </p:spPr>
      </p:pic>
      <p:pic>
        <p:nvPicPr>
          <p:cNvPr id="326" name="Kuva 9" descr=""/>
          <p:cNvPicPr/>
          <p:nvPr/>
        </p:nvPicPr>
        <p:blipFill>
          <a:blip r:embed="rId2"/>
          <a:stretch/>
        </p:blipFill>
        <p:spPr>
          <a:xfrm>
            <a:off x="2556000" y="4221000"/>
            <a:ext cx="380880" cy="432000"/>
          </a:xfrm>
          <a:prstGeom prst="rect">
            <a:avLst/>
          </a:prstGeom>
          <a:ln w="0">
            <a:noFill/>
          </a:ln>
        </p:spPr>
      </p:pic>
      <p:pic>
        <p:nvPicPr>
          <p:cNvPr id="327" name="Kuva 5" descr=""/>
          <p:cNvPicPr/>
          <p:nvPr/>
        </p:nvPicPr>
        <p:blipFill>
          <a:blip r:embed="rId3"/>
          <a:stretch/>
        </p:blipFill>
        <p:spPr>
          <a:xfrm>
            <a:off x="1692360" y="4653000"/>
            <a:ext cx="36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aluepolitiikk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ue EU-kielessä: kansallisvaltion sisällä oleva alue- ja paikallishallinnollinen yksikkö, joka muodostaa oman talousalueen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Suomessa maakun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lintasoeroja tasoittaakseen EU harjoittaa aktiivista aluepolitiikkaa ja alueiden tuke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:n aluepolitiikka on koheesiopolitiikkaa eli yhteenkuuluvuuden lujitta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B8B2-FB2B-4BBE-AD5A-ADD2C74A052C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Kuva 7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:n aluepolitiikan painopisteitä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alueiden lähenty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kilpailukyvyn paranta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keskinäisen yhteistyön parantamine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¾ EU:n päätöksistä pannaan toimeen aluetasolla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¾ EU:n budjetista suuntautuu alueille alue- ja maataloustuk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uepolitiikan painopiste on nykyään Itä-Euroop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←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tausta: suuri itälaajentuminen 2004 ja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8DEA-5121-4DCB-9C38-BAE5076A7253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6" name="Kuva 7" descr=""/>
          <p:cNvPicPr/>
          <p:nvPr/>
        </p:nvPicPr>
        <p:blipFill>
          <a:blip r:embed="rId5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aluetukirahasto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:n aluekehitysrahasto (EAK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ukee yrittäjyyttä, alueellista osaamista ja uusia innovaatio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opan sosiaalirahasto (ES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ukee ammattikoulutusta, työllisyyttä ja työpaikkojen luom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oheesioraha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ukee ympäristöön, liikenneväyliin ja uusiutuvaan energiaan liittyviä hankkei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uet kohdentuvat köyhille EU-ma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7BEDD-6CEF-4511-8CD6-C930CCD4E039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1" name="Kuva 7" descr=""/>
          <p:cNvPicPr/>
          <p:nvPr/>
        </p:nvPicPr>
        <p:blipFill>
          <a:blip r:embed="rId1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aluepolitiikka Suomess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457200" y="17002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messa alueita ovat maakunnat (20 kp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akuntaliit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itävät yllä alueellisia yhteyksiä unioni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lobbaavat eli ajavat etujaan ja hankkivat yhteistyökumppaneita EU: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hoitavat erilaisten EU-hankkeiden hallint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mi saa aluetukia etenk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Itä- ja Pohjois-Suomen harvaan asutuille alue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Länsi- ja Etelä-Suomen rakennemuutospaikkakunnille (teollisuuden vähennyttyä, esim. Pori, Forssa, Voikka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F6151-8B4E-4F1E-A168-C4C0AA6F5A7A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Kuva 7" descr=""/>
          <p:cNvPicPr/>
          <p:nvPr/>
        </p:nvPicPr>
        <p:blipFill>
          <a:blip r:embed="rId5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Alueiden komite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844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dustaa alue- ja paikallishallintoa unioni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ansalaisten ääni Brysselissä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50 jäsen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neuvosto nimittää jäsenmaiden esitykse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jäsenet edustavat alueitaan, Suomella 9 edustaja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oimivalta rajallinen; antaa lähinnä lausunt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nisterineuvoston ja komission kuultava päätöksenteo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sim. koulutus-, liikenne- ja ympäristöasi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94690-B195-4457-8A9D-40BB5878F793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1" name="Kuva 7" descr=""/>
          <p:cNvPicPr/>
          <p:nvPr/>
        </p:nvPicPr>
        <p:blipFill>
          <a:blip r:embed="rId7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maatalouspolitiikan taust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19890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hteisen maatalouspolitiikan juuret 1960-luvu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voite: irti protektionistisesta maatalouspolitiik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tektionismi = suojelujärjestelm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yrkimys omavaraisuuteen ja oman tuotannon suojelu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orkeat tullit ulkomaisille maataloustuottei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man tuotannon tuki- ja vientipalkki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yypillistä 1920-1950-luvuilla Euroopan kansallisvaltio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60-luvulla EEC pyrki vapaakauppaan myös maataloustuottei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C830-C606-4AF4-A973-362D090FF6FB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6" name="Kuva 7" descr=""/>
          <p:cNvPicPr/>
          <p:nvPr/>
        </p:nvPicPr>
        <p:blipFill>
          <a:blip r:embed="rId5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</a:rPr>
              <a:t>Yhteisen maatalouspolitiikan toteutus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60-luvulla EEC toteutti maatalouden sisämarkkinat (maataloustuotteet vapaasti maasta toise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 jatkanut yhteistä maatalouspolitiikk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llit, vientituet ja kaupan esteet on poistettu maiden välil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innat, kilpailusäännöt sekä kasvi- ja eläinsuojeluun liittyvät säännökset yhteisi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ja kolmansien maiden kilpailua va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8D2A5-DE83-4D8A-BA0B-272881E82D7F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1" name="Kuva 7" descr=""/>
          <p:cNvPicPr/>
          <p:nvPr/>
        </p:nvPicPr>
        <p:blipFill>
          <a:blip r:embed="rId7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21337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</a:rPr>
              <a:t>9 Alueelliset erot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sivut 102 - 1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dinsisällö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ntitehtä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tehtävien vastaukse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5286-B05C-4A66-B78A-79C885EBC0EF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0" name="Kuva 7" descr=""/>
          <p:cNvPicPr/>
          <p:nvPr/>
        </p:nvPicPr>
        <p:blipFill>
          <a:blip r:embed="rId1"/>
          <a:stretch/>
        </p:blipFill>
        <p:spPr>
          <a:xfrm>
            <a:off x="2556000" y="3716280"/>
            <a:ext cx="463320" cy="457200"/>
          </a:xfrm>
          <a:prstGeom prst="rect">
            <a:avLst/>
          </a:prstGeom>
          <a:ln w="0">
            <a:noFill/>
          </a:ln>
        </p:spPr>
      </p:pic>
      <p:pic>
        <p:nvPicPr>
          <p:cNvPr id="271" name="Kuva 9" descr=""/>
          <p:cNvPicPr/>
          <p:nvPr/>
        </p:nvPicPr>
        <p:blipFill>
          <a:blip r:embed="rId2"/>
          <a:stretch/>
        </p:blipFill>
        <p:spPr>
          <a:xfrm>
            <a:off x="2771640" y="4292640"/>
            <a:ext cx="381240" cy="360360"/>
          </a:xfrm>
          <a:prstGeom prst="rect">
            <a:avLst/>
          </a:prstGeom>
          <a:ln w="0">
            <a:noFill/>
          </a:ln>
        </p:spPr>
      </p:pic>
      <p:pic>
        <p:nvPicPr>
          <p:cNvPr id="272" name="Kuva 5" descr=""/>
          <p:cNvPicPr/>
          <p:nvPr/>
        </p:nvPicPr>
        <p:blipFill>
          <a:blip r:embed="rId3"/>
          <a:stretch/>
        </p:blipFill>
        <p:spPr>
          <a:xfrm>
            <a:off x="1619280" y="4653000"/>
            <a:ext cx="360360" cy="43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Maatalouden tukeminen EU:ss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 tukee maataloutta rahallisesti: puolet EU:n budjetista kuluu eri maiden maataloustuk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yös osa aluetuista kohdentuu maaseudu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et ja niiden valvonta tuoneet maatalouteen tarkan sääntelyn, yhdenmukaistamisen ja valvonn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ki- ja byrokratiaviidakko ahdistaa monia viljelijöi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B23E1-773F-4A81-9749-6FD089925BBB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Kuva 7" descr=""/>
          <p:cNvPicPr/>
          <p:nvPr/>
        </p:nvPicPr>
        <p:blipFill>
          <a:blip r:embed="rId5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maatalouspolitiikka ja Suomi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250920" y="1700280"/>
            <a:ext cx="8208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men kannalta ongelmal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uomen pohjoinen sijainti: tarve erityisten vaikeuksien tukeen ↔ EU suhtautuu nihkeä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voiko Suomi maksaa kansallista maataloustukea? ↔ EU:n kilpailusäännö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uomen tilakoko on ollut historiallisista syistä pieni ↔ EU pyrkii suurtiloihin kilpailusyist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:n maatalouspolitiikan vaikutuksia Suomes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tilakoon nopea kasv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moni pieni tila lopettanut maataloustuotann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142A-E8FA-46F5-A155-9D2689FB3C9C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1" name="Kuva 7" descr=""/>
          <p:cNvPicPr/>
          <p:nvPr/>
        </p:nvPicPr>
        <p:blipFill>
          <a:blip r:embed="rId3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EU:n aluepolitiikk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ue oppikirjan teksti sivuilta 109-112 ja vastaa kysymyksi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ksi EU harjoittaa aluepolitiikka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ten alueita tuetaan käytännössä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tä muutoksia aluetukien kohdentumisessa on tapahtunut 2000-luvul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llaisia hankkeita EU erityisesti tuke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1F35-201B-4223-B4F3-E800D3AF0978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6" name="Kuva 9" descr=""/>
          <p:cNvPicPr/>
          <p:nvPr/>
        </p:nvPicPr>
        <p:blipFill>
          <a:blip r:embed="rId2"/>
          <a:stretch/>
        </p:blipFill>
        <p:spPr>
          <a:xfrm>
            <a:off x="8172360" y="404640"/>
            <a:ext cx="3812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ä: Suunnittele EU-hanke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unnitelkaa pari- tai ryhmätyönä paikallinen hanke, johon voisi hakea tukea EU: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Pohtikaa hankkeen perustelut, tavoitteet, sisältö ja käytännön toteuttamin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Pohtikaa, mistä EU:n rahastosta hankkeellenne voisi saada tuke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Ottakaa selvää maakuntaliitosta, mistä hankeasioihin voi saada neuvonta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Oval 4"/>
          <p:cNvSpPr/>
          <p:nvPr/>
        </p:nvSpPr>
        <p:spPr>
          <a:xfrm>
            <a:off x="6732720" y="692280"/>
            <a:ext cx="216036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Käytä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nternetlähteitä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325D4-54E5-4A7E-B732-EED96726FCA3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2" name="Kuva 9" descr=""/>
          <p:cNvPicPr/>
          <p:nvPr/>
        </p:nvPicPr>
        <p:blipFill>
          <a:blip r:embed="rId2"/>
          <a:stretch/>
        </p:blipFill>
        <p:spPr>
          <a:xfrm>
            <a:off x="8388360" y="18900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EU:n maatalouspolitiikk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tä EU:n yhteinen maatalouspolitiikka tarkoitta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Lue maanviljelijä Mikko Mattilan haastattelu s. 117. Mitä muutoksia EU on tuonut viljelijäl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ohdi seurauksia, jos EU valitsisi nykyisen maataloustukipolitiikan sijaan jonkin seuraavis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) tuet lopetetaan – tuki siirtyy verovaroista elintarvikkeiden hintoih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b) Eurooppa päästää vapaasti USA:n ja muiden maiden elintarvikkeet markkinoille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) yhteinen maatalouspolitiikka lopetetaan ja palataan protektionismii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1F8A7-95C3-473E-B7C8-DFBFF44728BA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7" name="Kuva 9" descr=""/>
          <p:cNvPicPr/>
          <p:nvPr/>
        </p:nvPicPr>
        <p:blipFill>
          <a:blip r:embed="rId1"/>
          <a:stretch/>
        </p:blipFill>
        <p:spPr>
          <a:xfrm>
            <a:off x="8172360" y="476280"/>
            <a:ext cx="3812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nykymit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maita on nykyään 2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n väkiluku yli 500 miljoon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Kiinan ja Intian jälkeen EU on suurin jokseenkin yhtenäisesti hallittu alue maailma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n pinta-ala noin 4 miljoonaa km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inta-ala: suurin maa Ranska ja pienin M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ukasluku: suurin Saksa (82,5 milj.) ja pienin Malta (0,4 mil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25718-65B2-4758-985D-F44D3D4F6BF8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Kuva 7" descr=""/>
          <p:cNvPicPr/>
          <p:nvPr/>
        </p:nvPicPr>
        <p:blipFill>
          <a:blip r:embed="rId6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rooppalaiset vähemmistö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maat eivät ole kulttuuriltaan yhtenäisiä, vaan maissa on monia vähemmistöj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kielivähemmistöt, kulttuurivähemmistöt, etniset, uskonnolliset ja muut vähemmistö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issain vähemmistöissä separatistisia liikkeitä eli pyrkimyksiä eroon emäma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sim. baskit, katalonialaiset, skotit ja pohjoisitalialai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46A95-C4D5-49EC-95A9-113305098471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2" name="Kuva 7" descr=""/>
          <p:cNvPicPr/>
          <p:nvPr/>
        </p:nvPicPr>
        <p:blipFill>
          <a:blip r:embed="rId3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kielipolitiikk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:n kielellinen ja kulttuurinen moninaisuus näkyy sen kielipolitiik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lla ei yhtä tai muutamaa virallista kiel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irallisia kieliä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usimmat viralliset: bulgaria, iiri ja roman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leisin unionissa puhuttu kieli: saksa (90 milj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:n hallinto käyttää työkielinä etenkin englantia ja ransk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E5AD6-EDF5-44DB-B7AD-9AEE22EA76E8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Kuva 7" descr=""/>
          <p:cNvPicPr/>
          <p:nvPr/>
        </p:nvPicPr>
        <p:blipFill>
          <a:blip r:embed="rId7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lintasoero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 Pohjois-Amerikan ohella maailman vaurain talous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maiden bkt ja elintaso vaihtele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leensä pohjoiset, läntiset ja vanhat jäsenmaat rikkaita; eteläiset, itäiset ja 2000-luvulla unioniin liittyneet maat köyhi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poikkeuksia: Malta, Kypros ja Sloven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ikkaimmat 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bkt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 Luxemburg, Hollanti ja Irlan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öyhimmät 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bkt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: Bulgaria, Romania ja Latvi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D2E50-F3F3-4869-BEEA-F5F70559FF9F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Kuva 7" descr=""/>
          <p:cNvPicPr/>
          <p:nvPr/>
        </p:nvPicPr>
        <p:blipFill>
          <a:blip r:embed="rId6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 elintasoerojen kaventajan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-maissa suuria varallisuus- ja tuloeroja, köyhyyttä ja syrjäytyneisyyt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 pyrkinyt parantamaan tilannetta aluepolitiika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arhaiten EY:n ja EU:n aluepolitiikasta hyötyneet Irlanti, Espanja, Portugali ja Kreik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yt unioni keskittyy 2004 ja 2007 liittyneiden Itä-Euroopan maiden olojen parantami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14E54-579D-48DC-9A0A-E2BF6B9D445A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7" name="Kuva 7" descr=""/>
          <p:cNvPicPr/>
          <p:nvPr/>
        </p:nvPicPr>
        <p:blipFill>
          <a:blip r:embed="rId5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</a:rPr>
              <a:t>Tehtäviä: Eurooppalaiset vähemmistöt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ta pari- tai ryhmätyönä selvää yhdes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oppalaisesta vähemmistöstä. Selvitä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ähemmistön ko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ten vähemmistö eroaa valtaväestöstä (onko kyseessä kieli-, kulttuuri-, etninen, uskonnollinen vai muunlainen vähemmistö)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ähemmistön historian pääpiirt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ähemmistön asema maass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 4"/>
          <p:cNvSpPr/>
          <p:nvPr/>
        </p:nvSpPr>
        <p:spPr>
          <a:xfrm>
            <a:off x="6372360" y="907920"/>
            <a:ext cx="230508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Käytä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nternetlähteitä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DBFC-B71C-48D5-9304-54BA5E000A29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Kuva 9" descr=""/>
          <p:cNvPicPr/>
          <p:nvPr/>
        </p:nvPicPr>
        <p:blipFill>
          <a:blip r:embed="rId1"/>
          <a:stretch/>
        </p:blipFill>
        <p:spPr>
          <a:xfrm>
            <a:off x="8388360" y="18900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Vähemmistöjä: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773000"/>
            <a:ext cx="403848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hvenanmaala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ää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4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atalaa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5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iviläiset Latvi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6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nskan afrikkala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7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omanian roma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8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uotsinsuomala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648320" y="1844280"/>
            <a:ext cx="403848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9) sko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0) sor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1) suomenruotsala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2) Saksan turkkila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3) Suomen ortodok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4) Suomen soma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5) Suomen tataa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6) Viron venälä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7) walesilai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18AE8-B58E-4C4E-A368-040498406248}" type="slidenum">
              <a:rPr b="0" lang="fi-FI" sz="1100" spc="-1" strike="noStrike">
                <a:solidFill>
                  <a:srgbClr val="800000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9" name="Kuva 9" descr=""/>
          <p:cNvPicPr/>
          <p:nvPr/>
        </p:nvPicPr>
        <p:blipFill>
          <a:blip r:embed="rId1"/>
          <a:stretch/>
        </p:blipFill>
        <p:spPr>
          <a:xfrm>
            <a:off x="8172360" y="404640"/>
            <a:ext cx="381240" cy="4064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06:21:19Z</dcterms:created>
  <dc:creator>juhana</dc:creator>
  <dc:description/>
  <dc:language>en-US</dc:language>
  <cp:lastModifiedBy>sme</cp:lastModifiedBy>
  <dcterms:modified xsi:type="dcterms:W3CDTF">2011-08-10T08:42:09Z</dcterms:modified>
  <cp:revision>15</cp:revision>
  <dc:subject/>
  <dc:title>IV Alueiden Eurooppa</dc:title>
</cp:coreProperties>
</file>